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82B-C950-4F07-A882-5C69F59B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F4C-A4CC-41BB-A953-FB0CCEE1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C18-7876-4094-AD20-BD67838B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FC8-552B-4356-BE5D-3F40C963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AAD3-3478-40A9-996C-5B02EEF1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0049-FCF6-4BC0-8BBA-4408385F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5D39-E3C3-40B5-B782-D8E89978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BF02-7C7C-4B4A-AB1A-FD003263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EBD7-C582-4864-A955-B77136DA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5AF4-DE5F-44AA-B059-791B37E7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691E-061C-457A-AF95-29D493D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5C7-7CE1-4848-BB8E-5B0D5D75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EF55-A106-4525-B21E-90EC160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0341-68CA-477D-9E90-109D534F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0370-9BCE-41EE-A7FC-06D92780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ED30-443A-4FE1-B880-3A6A5175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C197-0C13-409A-8001-7A9BDF22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8680-31F3-44C3-8F05-A2195991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320B9-CBAF-4C5D-9097-85A573CF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74D1-642A-446F-A575-D3FB9B45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B4C0-EB74-4142-A980-2AF1B5CE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0D78-D6F6-4659-AF15-CC86333E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474-CD96-41C5-A879-C597E13E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2CC3-0FFE-43A7-878E-CD92E31B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DEDA5-7A8E-48C6-9997-8A3EEE9A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21D2-EE7B-4BA6-99A0-DE76E90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A4433-39B5-4110-856C-EF96E211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714F-58C3-4764-9C5C-3DC8190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E019-44D8-400F-9D1F-DD30B3AB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04EC-00A7-4631-AE12-1FF896BB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DB985-D027-443D-B810-24577E73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01CE6-F379-4B8C-AE07-6B395C20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B510-2E06-43CD-8F4B-01940A2A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C3B-9A37-4136-9CB2-B92724BC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2625-256E-4DD8-9852-6FBC0664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E1ED-31BA-43B3-990E-2B9BACE4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4A752-C10C-4AA6-A183-D025DD88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928E-AF82-42AE-9CF4-748DD66F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FD61D-3F62-4541-8418-05FAB676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419CC-96AF-4D6C-898A-EE9E5DA5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1F7C-3F99-4A72-865F-B2493C1D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73EA-4171-465A-840D-DA7C327F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D9415-C656-4990-9CE8-D53A9340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F4C7C-1086-4CC8-BC52-D5250A32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CE8-7AD1-45DF-A421-D1DD9F84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A2A9-29E0-44CF-86C1-D3C6F5D0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650F-64ED-45DD-8FB8-0B18F9F8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EDB23-9922-49A4-99BB-EC584FCC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645E-CCA4-44B7-89E3-EE405D14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E210-1601-443A-9AF2-27EEF30C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A7EE6-1AD1-4781-9FAD-4D1B67C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0170B-916E-4D97-A7E8-0FBA7DA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14810-1716-4028-BF4C-1BD06B73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93DC-01EA-474C-A362-D34327FA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86F15-2F02-4DE2-B65D-226ABE49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D03-4C84-4830-A913-ED744105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5422B-6838-4A99-A039-2150DC7B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776-52D9-4B73-88E0-5086DA0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EF7-0FA0-46F2-A3B9-314182D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803-96B4-4B2D-9D18-E5CC05B0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AE8A-6851-4A9C-A4A3-AD72698C14F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A181-970D-47C1-A1D0-2E10FDFF96D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3C89-DCE0-4DBB-869F-AE666815C9B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DB3-2E7E-43C8-A435-9B453AC113E5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89AA-A22E-4FBD-BC59-68A488C9A73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y; Danny and Dako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; Mrs.Chamb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438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 symbol for a number we don't know yet. It is usually a letter like x or 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ample: in x + 2 = 6, x is the varia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f it is not a variable it is called a Constant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sed on 1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ample: the numbers we use in everyday life are decimal numbers, because there are 10 of them (0,1,2,3,4,5,6,7,8 and 9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ten "decimal number" is also used to mean a number that uses a decimal point followed by digits as a way of showing values less than on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ample: 1.9 is a decimal number (one and nine tenth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number with no fractional part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ludes the counting numbers {1, 2, 3, ...}, zero {0}, and the negative of the counting numbers {-1, -2, -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can write them down like this: {..., -3, -2, -1, 0, 1, 2, 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amples of integers: -16, -3, 0, 1, 19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9:30Z</dcterms:created>
  <dc:creator>danny.gilley</dc:creator>
  <dc:description/>
  <dc:language>en-US</dc:language>
  <cp:lastModifiedBy>lucy.chambers</cp:lastModifiedBy>
  <dcterms:modified xsi:type="dcterms:W3CDTF">2010-11-23T14:37:53Z</dcterms:modified>
  <cp:revision>5</cp:revision>
  <dc:subject/>
  <dc:title>vocabulary</dc:title>
</cp:coreProperties>
</file>